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315200" cy="96012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35A3-5E6A-476C-A49E-0BC80078A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853560"/>
            <a:ext cx="6216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2773080"/>
            <a:ext cx="62164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5782320"/>
            <a:ext cx="62164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8F41-D74A-49C4-8481-7A7308B9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853560"/>
            <a:ext cx="6216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2773080"/>
            <a:ext cx="3033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34640" y="2773080"/>
            <a:ext cx="3033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5782320"/>
            <a:ext cx="3033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34640" y="5782320"/>
            <a:ext cx="3033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AC55-9178-494E-AD2F-143DA3158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853560"/>
            <a:ext cx="6216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2773080"/>
            <a:ext cx="20016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51400" y="2773080"/>
            <a:ext cx="20016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53440" y="2773080"/>
            <a:ext cx="20016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5782320"/>
            <a:ext cx="20016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51400" y="5782320"/>
            <a:ext cx="20016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53440" y="5782320"/>
            <a:ext cx="20016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EC00-8DDA-480D-9377-1098A7146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853560"/>
            <a:ext cx="6216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2773080"/>
            <a:ext cx="621648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B35F-4FE4-41FA-86CE-F901B2E5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853560"/>
            <a:ext cx="6216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2773080"/>
            <a:ext cx="62164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A8C7-E282-4E68-8B55-F1891DB8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853560"/>
            <a:ext cx="6216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2773080"/>
            <a:ext cx="3033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34640" y="2773080"/>
            <a:ext cx="3033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035C-75D9-407B-A360-782734DA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853560"/>
            <a:ext cx="6216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46FF-908E-41FF-887C-2BD9ACFD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853560"/>
            <a:ext cx="62164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6919-3BEE-4E23-BDAB-9524F3E4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853560"/>
            <a:ext cx="6216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2773080"/>
            <a:ext cx="3033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34640" y="2773080"/>
            <a:ext cx="3033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5782320"/>
            <a:ext cx="3033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17C5-4175-4325-83C1-19E3868B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853560"/>
            <a:ext cx="6216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2773080"/>
            <a:ext cx="3033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34640" y="2773080"/>
            <a:ext cx="3033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34640" y="5782320"/>
            <a:ext cx="3033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D222-4BC8-426B-905F-D8EC1BEF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853560"/>
            <a:ext cx="6216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2773080"/>
            <a:ext cx="3033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34640" y="2773080"/>
            <a:ext cx="3033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5782320"/>
            <a:ext cx="62164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A9C1-6078-4280-AA37-1D491E00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853560"/>
            <a:ext cx="6216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2773080"/>
            <a:ext cx="62164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000" y="8746920"/>
            <a:ext cx="1523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98760" y="8746920"/>
            <a:ext cx="23176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241600" y="8746920"/>
            <a:ext cx="1523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272E-666F-42EE-ACE4-DD7894CBC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47840"/>
            <a:ext cx="7315200" cy="5144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81560" y="2509920"/>
            <a:ext cx="12906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 = Verbal Ups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22520" y="0"/>
            <a:ext cx="2313000" cy="34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54640" y="500040"/>
            <a:ext cx="173160" cy="15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540400" y="460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080" y="765000"/>
            <a:ext cx="114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Na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27160" y="968400"/>
            <a:ext cx="446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59120" y="765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45120" y="968400"/>
            <a:ext cx="127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0" y="104148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CC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68520" y="1258920"/>
            <a:ext cx="574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6373800" y="786960"/>
            <a:ext cx="10476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6711840" y="786960"/>
            <a:ext cx="10476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0" y="460440"/>
            <a:ext cx="731880" cy="276480"/>
            <a:chOff x="0" y="460440"/>
            <a:chExt cx="731880" cy="276480"/>
          </a:xfrm>
        </p:grpSpPr>
        <p:sp>
          <p:nvSpPr>
            <p:cNvPr id="56" name=""/>
            <p:cNvSpPr/>
            <p:nvPr/>
          </p:nvSpPr>
          <p:spPr>
            <a:xfrm>
              <a:off x="0" y="500400"/>
              <a:ext cx="172800" cy="14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4400" y="460440"/>
              <a:ext cx="53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838080" y="460440"/>
            <a:ext cx="451800" cy="276480"/>
            <a:chOff x="838080" y="460440"/>
            <a:chExt cx="451800" cy="276480"/>
          </a:xfrm>
        </p:grpSpPr>
        <p:sp>
          <p:nvSpPr>
            <p:cNvPr id="59" name=""/>
            <p:cNvSpPr/>
            <p:nvPr/>
          </p:nvSpPr>
          <p:spPr>
            <a:xfrm>
              <a:off x="838080" y="500400"/>
              <a:ext cx="172440" cy="14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3840" y="4604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482840" y="460440"/>
            <a:ext cx="452520" cy="276480"/>
            <a:chOff x="1482840" y="460440"/>
            <a:chExt cx="452520" cy="276480"/>
          </a:xfrm>
        </p:grpSpPr>
        <p:sp>
          <p:nvSpPr>
            <p:cNvPr id="62" name=""/>
            <p:cNvSpPr/>
            <p:nvPr/>
          </p:nvSpPr>
          <p:spPr>
            <a:xfrm>
              <a:off x="1482840" y="500400"/>
              <a:ext cx="172800" cy="14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669320" y="4604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128680" y="460440"/>
            <a:ext cx="451800" cy="276480"/>
            <a:chOff x="2128680" y="460440"/>
            <a:chExt cx="451800" cy="276480"/>
          </a:xfrm>
        </p:grpSpPr>
        <p:sp>
          <p:nvSpPr>
            <p:cNvPr id="65" name=""/>
            <p:cNvSpPr/>
            <p:nvPr/>
          </p:nvSpPr>
          <p:spPr>
            <a:xfrm>
              <a:off x="2128680" y="500400"/>
              <a:ext cx="172440" cy="14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14440" y="4604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2773440" y="460440"/>
            <a:ext cx="451800" cy="276480"/>
            <a:chOff x="2773440" y="460440"/>
            <a:chExt cx="451800" cy="276480"/>
          </a:xfrm>
        </p:grpSpPr>
        <p:sp>
          <p:nvSpPr>
            <p:cNvPr id="68" name=""/>
            <p:cNvSpPr/>
            <p:nvPr/>
          </p:nvSpPr>
          <p:spPr>
            <a:xfrm>
              <a:off x="2773440" y="500400"/>
              <a:ext cx="172440" cy="14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959200" y="4604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419640" y="460440"/>
            <a:ext cx="451800" cy="276480"/>
            <a:chOff x="3419640" y="460440"/>
            <a:chExt cx="451800" cy="276480"/>
          </a:xfrm>
        </p:grpSpPr>
        <p:sp>
          <p:nvSpPr>
            <p:cNvPr id="71" name=""/>
            <p:cNvSpPr/>
            <p:nvPr/>
          </p:nvSpPr>
          <p:spPr>
            <a:xfrm>
              <a:off x="3419640" y="500400"/>
              <a:ext cx="172440" cy="14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605400" y="4604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064040" y="460440"/>
            <a:ext cx="451800" cy="276480"/>
            <a:chOff x="4064040" y="460440"/>
            <a:chExt cx="451800" cy="276480"/>
          </a:xfrm>
        </p:grpSpPr>
        <p:sp>
          <p:nvSpPr>
            <p:cNvPr id="74" name=""/>
            <p:cNvSpPr/>
            <p:nvPr/>
          </p:nvSpPr>
          <p:spPr>
            <a:xfrm>
              <a:off x="4064040" y="500400"/>
              <a:ext cx="172440" cy="14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49800" y="4604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708440" y="460440"/>
            <a:ext cx="452520" cy="276480"/>
            <a:chOff x="4708440" y="460440"/>
            <a:chExt cx="452520" cy="276480"/>
          </a:xfrm>
        </p:grpSpPr>
        <p:sp>
          <p:nvSpPr>
            <p:cNvPr id="77" name=""/>
            <p:cNvSpPr/>
            <p:nvPr/>
          </p:nvSpPr>
          <p:spPr>
            <a:xfrm>
              <a:off x="4708440" y="500400"/>
              <a:ext cx="173160" cy="14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94920" y="4604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5999040" y="460440"/>
            <a:ext cx="539640" cy="276480"/>
            <a:chOff x="5999040" y="460440"/>
            <a:chExt cx="539640" cy="276480"/>
          </a:xfrm>
        </p:grpSpPr>
        <p:sp>
          <p:nvSpPr>
            <p:cNvPr id="80" name=""/>
            <p:cNvSpPr/>
            <p:nvPr/>
          </p:nvSpPr>
          <p:spPr>
            <a:xfrm>
              <a:off x="5999040" y="500400"/>
              <a:ext cx="172800" cy="14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187320" y="46044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6686640" y="460440"/>
            <a:ext cx="705600" cy="276480"/>
            <a:chOff x="6686640" y="460440"/>
            <a:chExt cx="705600" cy="276480"/>
          </a:xfrm>
        </p:grpSpPr>
        <p:sp>
          <p:nvSpPr>
            <p:cNvPr id="83" name=""/>
            <p:cNvSpPr/>
            <p:nvPr/>
          </p:nvSpPr>
          <p:spPr>
            <a:xfrm>
              <a:off x="6686640" y="500400"/>
              <a:ext cx="172800" cy="14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80680" y="460440"/>
              <a:ext cx="51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943520" y="5364000"/>
            <a:ext cx="2371680" cy="260280"/>
            <a:chOff x="4943520" y="5364000"/>
            <a:chExt cx="2371680" cy="260280"/>
          </a:xfrm>
        </p:grpSpPr>
        <p:sp>
          <p:nvSpPr>
            <p:cNvPr id="86" name=""/>
            <p:cNvSpPr/>
            <p:nvPr/>
          </p:nvSpPr>
          <p:spPr>
            <a:xfrm>
              <a:off x="4962600" y="5364000"/>
              <a:ext cx="2352600" cy="247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83120" y="5367240"/>
              <a:ext cx="14320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 = Reinforced Fi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943520" y="5365440"/>
              <a:ext cx="10364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J = Jendrassik’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0" y="3351240"/>
            <a:ext cx="7221240" cy="1120320"/>
            <a:chOff x="0" y="3351240"/>
            <a:chExt cx="7221240" cy="1120320"/>
          </a:xfrm>
        </p:grpSpPr>
        <p:sp>
          <p:nvSpPr>
            <p:cNvPr id="90" name=""/>
            <p:cNvSpPr/>
            <p:nvPr/>
          </p:nvSpPr>
          <p:spPr>
            <a:xfrm>
              <a:off x="0" y="3367080"/>
              <a:ext cx="812520" cy="23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4320" y="3351240"/>
              <a:ext cx="7216920" cy="1120320"/>
              <a:chOff x="4320" y="3351240"/>
              <a:chExt cx="7216920" cy="1120320"/>
            </a:xfrm>
          </p:grpSpPr>
          <p:sp>
            <p:nvSpPr>
              <p:cNvPr id="92" name=""/>
              <p:cNvSpPr/>
              <p:nvPr/>
            </p:nvSpPr>
            <p:spPr>
              <a:xfrm>
                <a:off x="70200" y="3351240"/>
                <a:ext cx="6638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Histor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" name=""/>
              <p:cNvGrpSpPr/>
              <p:nvPr/>
            </p:nvGrpSpPr>
            <p:grpSpPr>
              <a:xfrm>
                <a:off x="4320" y="3493800"/>
                <a:ext cx="7216920" cy="977760"/>
                <a:chOff x="4320" y="3493800"/>
                <a:chExt cx="7216920" cy="9777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1397520" y="3493800"/>
                  <a:ext cx="362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Ye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802520" y="3493800"/>
                  <a:ext cx="3164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o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6455880" y="3493800"/>
                  <a:ext cx="362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Ye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6856200" y="3493800"/>
                  <a:ext cx="3164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o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4398840" y="3493800"/>
                  <a:ext cx="362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Ye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4813920" y="3493800"/>
                  <a:ext cx="3164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o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0" name=""/>
                <p:cNvGrpSpPr/>
                <p:nvPr/>
              </p:nvGrpSpPr>
              <p:grpSpPr>
                <a:xfrm>
                  <a:off x="4320" y="3606480"/>
                  <a:ext cx="7216920" cy="865080"/>
                  <a:chOff x="4320" y="3606480"/>
                  <a:chExt cx="7216920" cy="865080"/>
                </a:xfrm>
              </p:grpSpPr>
              <p:sp>
                <p:nvSpPr>
                  <p:cNvPr id="101" name=""/>
                  <p:cNvSpPr/>
                  <p:nvPr/>
                </p:nvSpPr>
                <p:spPr>
                  <a:xfrm>
                    <a:off x="5130360" y="3606480"/>
                    <a:ext cx="1121040" cy="703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Vertigo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L.O.C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oll. W/O L.O.C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Smokin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4320" y="3606480"/>
                    <a:ext cx="1146960" cy="855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irth Control Pill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Hypertensio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therosclerosi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History of CV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nticoagulant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190240" y="3616200"/>
                    <a:ext cx="1989720" cy="855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lurred Visio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Tinniti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Speech or Swallowing Problem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H.I.V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.I.D.S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4" name=""/>
                  <p:cNvGrpSpPr/>
                  <p:nvPr/>
                </p:nvGrpSpPr>
                <p:grpSpPr>
                  <a:xfrm>
                    <a:off x="71280" y="3657240"/>
                    <a:ext cx="7149960" cy="757440"/>
                    <a:chOff x="71280" y="3657240"/>
                    <a:chExt cx="7149960" cy="757440"/>
                  </a:xfrm>
                </p:grpSpPr>
                <p:sp>
                  <p:nvSpPr>
                    <p:cNvPr id="105" name=""/>
                    <p:cNvSpPr/>
                    <p:nvPr/>
                  </p:nvSpPr>
                  <p:spPr>
                    <a:xfrm>
                      <a:off x="71280" y="3657240"/>
                      <a:ext cx="7145280" cy="7574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1401480" y="3657240"/>
                      <a:ext cx="751320" cy="7574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"/>
                    <p:cNvSpPr/>
                    <p:nvPr/>
                  </p:nvSpPr>
                  <p:spPr>
                    <a:xfrm>
                      <a:off x="1777320" y="3657240"/>
                      <a:ext cx="0" cy="747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6474960" y="3657240"/>
                      <a:ext cx="741240" cy="7574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" name=""/>
                    <p:cNvSpPr/>
                    <p:nvPr/>
                  </p:nvSpPr>
                  <p:spPr>
                    <a:xfrm>
                      <a:off x="6850800" y="3657240"/>
                      <a:ext cx="0" cy="757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" name=""/>
                    <p:cNvSpPr/>
                    <p:nvPr/>
                  </p:nvSpPr>
                  <p:spPr>
                    <a:xfrm>
                      <a:off x="4402800" y="3657240"/>
                      <a:ext cx="751320" cy="7574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4788720" y="3666960"/>
                      <a:ext cx="0" cy="738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71280" y="3804840"/>
                      <a:ext cx="71402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75960" y="3957480"/>
                      <a:ext cx="7135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1280" y="4119120"/>
                      <a:ext cx="71499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71280" y="4267080"/>
                      <a:ext cx="71499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16" name=""/>
          <p:cNvSpPr/>
          <p:nvPr/>
        </p:nvSpPr>
        <p:spPr>
          <a:xfrm>
            <a:off x="0" y="2252520"/>
            <a:ext cx="10573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= Abnorm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34240" y="2252520"/>
            <a:ext cx="138096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 = Facial Grim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34240" y="2509920"/>
            <a:ext cx="9237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 = Omit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500200"/>
            <a:ext cx="94464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 = Norm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76200" y="2262240"/>
            <a:ext cx="13320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 = No Compla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0" y="4440240"/>
            <a:ext cx="1248840" cy="261360"/>
            <a:chOff x="0" y="4440240"/>
            <a:chExt cx="1248840" cy="261360"/>
          </a:xfrm>
        </p:grpSpPr>
        <p:sp>
          <p:nvSpPr>
            <p:cNvPr id="122" name=""/>
            <p:cNvSpPr/>
            <p:nvPr/>
          </p:nvSpPr>
          <p:spPr>
            <a:xfrm>
              <a:off x="0" y="4452840"/>
              <a:ext cx="1248840" cy="23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20" y="4440240"/>
              <a:ext cx="1162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ranial Nerv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5560" y="4722840"/>
            <a:ext cx="7247880" cy="529920"/>
            <a:chOff x="25560" y="4722840"/>
            <a:chExt cx="7247880" cy="529920"/>
          </a:xfrm>
        </p:grpSpPr>
        <p:sp>
          <p:nvSpPr>
            <p:cNvPr id="125" name=""/>
            <p:cNvSpPr/>
            <p:nvPr/>
          </p:nvSpPr>
          <p:spPr>
            <a:xfrm>
              <a:off x="272880" y="4727520"/>
              <a:ext cx="543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Lef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04520" y="4727520"/>
              <a:ext cx="543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igh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25560" y="4854240"/>
              <a:ext cx="7191360" cy="398520"/>
              <a:chOff x="25560" y="4854240"/>
              <a:chExt cx="7191360" cy="39852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25560" y="4854240"/>
                <a:ext cx="7191360" cy="398520"/>
                <a:chOff x="25560" y="4854240"/>
                <a:chExt cx="7191360" cy="39852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5560" y="4854240"/>
                  <a:ext cx="2509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0" name=""/>
                <p:cNvGrpSpPr/>
                <p:nvPr/>
              </p:nvGrpSpPr>
              <p:grpSpPr>
                <a:xfrm>
                  <a:off x="66240" y="4854240"/>
                  <a:ext cx="7150680" cy="398520"/>
                  <a:chOff x="66240" y="4854240"/>
                  <a:chExt cx="7150680" cy="39852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>
                    <a:off x="3606120" y="4905000"/>
                    <a:ext cx="0" cy="295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1201320" y="4854240"/>
                    <a:ext cx="25092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2393280" y="4854240"/>
                    <a:ext cx="25092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3587040" y="4854240"/>
                    <a:ext cx="25092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4780800" y="4854240"/>
                    <a:ext cx="32112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6066000" y="4854240"/>
                    <a:ext cx="32076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1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1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66240" y="5052600"/>
                    <a:ext cx="7150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66240" y="4900320"/>
                    <a:ext cx="7150680" cy="299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228600" y="4900320"/>
                    <a:ext cx="0" cy="29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1234440" y="4900320"/>
                    <a:ext cx="0" cy="290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1432440" y="4900320"/>
                    <a:ext cx="0" cy="290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2417400" y="4900320"/>
                    <a:ext cx="0" cy="29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2635920" y="4900320"/>
                    <a:ext cx="0" cy="290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3829320" y="4900320"/>
                    <a:ext cx="0" cy="295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4834800" y="4900320"/>
                    <a:ext cx="0" cy="29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5068800" y="4900320"/>
                    <a:ext cx="0" cy="295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6135120" y="4900320"/>
                    <a:ext cx="0" cy="295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6343200" y="4900320"/>
                    <a:ext cx="0" cy="290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9" name=""/>
              <p:cNvSpPr/>
              <p:nvPr/>
            </p:nvSpPr>
            <p:spPr>
              <a:xfrm>
                <a:off x="721800" y="4909680"/>
                <a:ext cx="0" cy="29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930320" y="4909680"/>
                <a:ext cx="0" cy="29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124080" y="4914360"/>
                <a:ext cx="0" cy="29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338000" y="4914360"/>
                <a:ext cx="0" cy="29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612760" y="4914360"/>
                <a:ext cx="0" cy="29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786000" y="4914360"/>
                <a:ext cx="0" cy="29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1476360" y="4722840"/>
              <a:ext cx="543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Lef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08360" y="4722840"/>
              <a:ext cx="543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igh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65080" y="4727520"/>
              <a:ext cx="543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Lef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6720" y="4727520"/>
              <a:ext cx="543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igh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94120" y="4727520"/>
              <a:ext cx="543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Lef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26120" y="4727520"/>
              <a:ext cx="543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igh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8800" y="4727520"/>
              <a:ext cx="543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Lef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90800" y="4727520"/>
              <a:ext cx="543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igh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64440" y="4727520"/>
              <a:ext cx="401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Lef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30200" y="4727520"/>
              <a:ext cx="543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igh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0" y="7978680"/>
            <a:ext cx="812880" cy="261360"/>
            <a:chOff x="0" y="7978680"/>
            <a:chExt cx="812880" cy="261360"/>
          </a:xfrm>
        </p:grpSpPr>
        <p:sp>
          <p:nvSpPr>
            <p:cNvPr id="166" name=""/>
            <p:cNvSpPr/>
            <p:nvPr/>
          </p:nvSpPr>
          <p:spPr>
            <a:xfrm>
              <a:off x="0" y="7991280"/>
              <a:ext cx="812880" cy="23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0" y="7978680"/>
              <a:ext cx="811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alp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843120" y="799452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43840" y="8242200"/>
            <a:ext cx="59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tion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43120" y="8489880"/>
            <a:ext cx="90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sculatur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71520" y="8191440"/>
            <a:ext cx="604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44600" y="8439120"/>
            <a:ext cx="597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54200" y="8686800"/>
            <a:ext cx="566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43840" y="8889840"/>
            <a:ext cx="72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nwheel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43840" y="9151920"/>
            <a:ext cx="71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bration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42400" y="9399600"/>
            <a:ext cx="84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cussion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43320" y="8875800"/>
            <a:ext cx="66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WNL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43320" y="9132840"/>
            <a:ext cx="66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WNL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43320" y="9390240"/>
            <a:ext cx="66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WNL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74920" y="9086760"/>
            <a:ext cx="463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68440" y="9344160"/>
            <a:ext cx="46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0" y="8859960"/>
            <a:ext cx="782640" cy="261360"/>
            <a:chOff x="0" y="8859960"/>
            <a:chExt cx="782640" cy="261360"/>
          </a:xfrm>
        </p:grpSpPr>
        <p:sp>
          <p:nvSpPr>
            <p:cNvPr id="183" name=""/>
            <p:cNvSpPr/>
            <p:nvPr/>
          </p:nvSpPr>
          <p:spPr>
            <a:xfrm>
              <a:off x="0" y="8872920"/>
              <a:ext cx="782640" cy="23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160" y="8859960"/>
              <a:ext cx="732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ensor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579680" y="9591840"/>
            <a:ext cx="453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24720" y="9077400"/>
            <a:ext cx="69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24720" y="9334440"/>
            <a:ext cx="69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624720" y="9591840"/>
            <a:ext cx="69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0" y="2813040"/>
            <a:ext cx="7203240" cy="536760"/>
            <a:chOff x="0" y="2813040"/>
            <a:chExt cx="7203240" cy="536760"/>
          </a:xfrm>
        </p:grpSpPr>
        <p:grpSp>
          <p:nvGrpSpPr>
            <p:cNvPr id="190" name=""/>
            <p:cNvGrpSpPr/>
            <p:nvPr/>
          </p:nvGrpSpPr>
          <p:grpSpPr>
            <a:xfrm>
              <a:off x="0" y="2854080"/>
              <a:ext cx="1107000" cy="261360"/>
              <a:chOff x="0" y="2854080"/>
              <a:chExt cx="1107000" cy="261360"/>
            </a:xfrm>
          </p:grpSpPr>
          <p:sp>
            <p:nvSpPr>
              <p:cNvPr id="191" name=""/>
              <p:cNvSpPr/>
              <p:nvPr/>
            </p:nvSpPr>
            <p:spPr>
              <a:xfrm>
                <a:off x="0" y="2862000"/>
                <a:ext cx="1107000" cy="233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800" y="2854080"/>
                <a:ext cx="10206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VBAI Scree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1036440" y="2813040"/>
              <a:ext cx="6166800" cy="536760"/>
              <a:chOff x="1036440" y="2813040"/>
              <a:chExt cx="6166800" cy="536760"/>
            </a:xfrm>
          </p:grpSpPr>
          <p:sp>
            <p:nvSpPr>
              <p:cNvPr id="194" name=""/>
              <p:cNvSpPr/>
              <p:nvPr/>
            </p:nvSpPr>
            <p:spPr>
              <a:xfrm>
                <a:off x="1036440" y="2816280"/>
                <a:ext cx="1446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uscultation for Brui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142640" y="2951280"/>
                <a:ext cx="7981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roti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ubclavia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978720" y="2951280"/>
                <a:ext cx="1148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autant’s Tes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Klein’s Maneu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188720" y="3143520"/>
                <a:ext cx="6014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905560" y="2990880"/>
                <a:ext cx="0" cy="30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228000" y="300060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88720" y="2990880"/>
                <a:ext cx="6014520" cy="314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940760" y="3000600"/>
                <a:ext cx="0" cy="30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880800" y="2990880"/>
                <a:ext cx="0" cy="31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62480" y="2990880"/>
                <a:ext cx="0" cy="31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370600" y="2813040"/>
                <a:ext cx="54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Lef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168360" y="2813040"/>
                <a:ext cx="54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Righ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576040" y="2813040"/>
                <a:ext cx="543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Lef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495840" y="2813040"/>
                <a:ext cx="54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Righ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8" name=""/>
          <p:cNvSpPr/>
          <p:nvPr/>
        </p:nvSpPr>
        <p:spPr>
          <a:xfrm>
            <a:off x="0" y="1328760"/>
            <a:ext cx="1108080" cy="23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30480" y="1814400"/>
            <a:ext cx="64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-20520" y="129852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tal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ig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200600" y="1319040"/>
            <a:ext cx="1407600" cy="255960"/>
            <a:chOff x="1200600" y="1319040"/>
            <a:chExt cx="1407600" cy="255960"/>
          </a:xfrm>
        </p:grpSpPr>
        <p:sp>
          <p:nvSpPr>
            <p:cNvPr id="212" name=""/>
            <p:cNvSpPr/>
            <p:nvPr/>
          </p:nvSpPr>
          <p:spPr>
            <a:xfrm>
              <a:off x="1713600" y="1520640"/>
              <a:ext cx="64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00600" y="1328760"/>
              <a:ext cx="579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ight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87440" y="13190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676240" y="1319040"/>
            <a:ext cx="1535760" cy="255960"/>
            <a:chOff x="2676240" y="1319040"/>
            <a:chExt cx="1535760" cy="255960"/>
          </a:xfrm>
        </p:grpSpPr>
        <p:sp>
          <p:nvSpPr>
            <p:cNvPr id="216" name=""/>
            <p:cNvSpPr/>
            <p:nvPr/>
          </p:nvSpPr>
          <p:spPr>
            <a:xfrm>
              <a:off x="2676240" y="1319040"/>
              <a:ext cx="607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eight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38920" y="1520640"/>
              <a:ext cx="64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791880" y="1328760"/>
              <a:ext cx="42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bs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4264200" y="1328760"/>
            <a:ext cx="57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76840" y="1521000"/>
            <a:ext cx="642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81640" y="1328760"/>
            <a:ext cx="25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80200" y="1366920"/>
            <a:ext cx="7920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03080" y="161136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p.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72720" y="1611360"/>
            <a:ext cx="45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44600" y="1611360"/>
            <a:ext cx="137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ood Pres.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670720" y="1328760"/>
            <a:ext cx="1460520" cy="246240"/>
            <a:chOff x="5670720" y="1328760"/>
            <a:chExt cx="1460520" cy="246240"/>
          </a:xfrm>
        </p:grpSpPr>
        <p:sp>
          <p:nvSpPr>
            <p:cNvPr id="227" name=""/>
            <p:cNvSpPr/>
            <p:nvPr/>
          </p:nvSpPr>
          <p:spPr>
            <a:xfrm>
              <a:off x="5670720" y="132876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ulse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43040" y="1520640"/>
              <a:ext cx="64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77640" y="1328760"/>
              <a:ext cx="453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P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3278880" y="1611360"/>
            <a:ext cx="32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44960" y="1647720"/>
            <a:ext cx="172800" cy="15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750840" y="16113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16200" y="1647720"/>
            <a:ext cx="173160" cy="15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00640" y="181620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91240" y="161136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t.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91880" y="193032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t.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5006880" y="1630440"/>
            <a:ext cx="104760" cy="18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12000" y="1816200"/>
            <a:ext cx="130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6618240" y="1630440"/>
            <a:ext cx="104760" cy="18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93000" y="1863720"/>
            <a:ext cx="128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ometer Grip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87440" y="2139840"/>
            <a:ext cx="2076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894040" y="1953720"/>
            <a:ext cx="10476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646440" y="1953720"/>
            <a:ext cx="10476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32400" y="19303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t.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43440" y="2139840"/>
            <a:ext cx="207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5450040" y="1953720"/>
            <a:ext cx="10476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6200640" y="1953720"/>
            <a:ext cx="10476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078080" y="160668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t.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25400" y="1096920"/>
            <a:ext cx="173160" cy="15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61840" y="1041480"/>
            <a:ext cx="126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4720" y="2017800"/>
            <a:ext cx="121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ircle Handednes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40040" y="2262240"/>
            <a:ext cx="13320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 = Ed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81560" y="2281320"/>
            <a:ext cx="13320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 = Eye Win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40040" y="2490840"/>
            <a:ext cx="13320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 = Spas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76200" y="2509920"/>
            <a:ext cx="13320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 = Rigid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6784920"/>
            <a:ext cx="1177920" cy="23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-1080" y="6772320"/>
            <a:ext cx="6919200" cy="1211040"/>
            <a:chOff x="-1080" y="6772320"/>
            <a:chExt cx="6919200" cy="1211040"/>
          </a:xfrm>
        </p:grpSpPr>
        <p:sp>
          <p:nvSpPr>
            <p:cNvPr id="258" name=""/>
            <p:cNvSpPr/>
            <p:nvPr/>
          </p:nvSpPr>
          <p:spPr>
            <a:xfrm>
              <a:off x="-1080" y="6772320"/>
              <a:ext cx="1186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otor Strength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314280" y="6948360"/>
              <a:ext cx="6603840" cy="1035000"/>
              <a:chOff x="314280" y="6948360"/>
              <a:chExt cx="6603840" cy="103500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314280" y="6948360"/>
                <a:ext cx="6602760" cy="1035000"/>
                <a:chOff x="314280" y="6948360"/>
                <a:chExt cx="6602760" cy="1035000"/>
              </a:xfrm>
            </p:grpSpPr>
            <p:grpSp>
              <p:nvGrpSpPr>
                <p:cNvPr id="261" name=""/>
                <p:cNvGrpSpPr/>
                <p:nvPr/>
              </p:nvGrpSpPr>
              <p:grpSpPr>
                <a:xfrm>
                  <a:off x="314280" y="7088040"/>
                  <a:ext cx="3301200" cy="895320"/>
                  <a:chOff x="314280" y="7088040"/>
                  <a:chExt cx="3301200" cy="895320"/>
                </a:xfrm>
              </p:grpSpPr>
              <p:sp>
                <p:nvSpPr>
                  <p:cNvPr id="262" name=""/>
                  <p:cNvSpPr/>
                  <p:nvPr/>
                </p:nvSpPr>
                <p:spPr>
                  <a:xfrm>
                    <a:off x="1279080" y="7130880"/>
                    <a:ext cx="1168200" cy="8096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2447280" y="7130880"/>
                    <a:ext cx="1168200" cy="8096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64" name=""/>
                  <p:cNvGrpSpPr/>
                  <p:nvPr/>
                </p:nvGrpSpPr>
                <p:grpSpPr>
                  <a:xfrm>
                    <a:off x="314280" y="7088040"/>
                    <a:ext cx="964440" cy="895320"/>
                    <a:chOff x="314280" y="7088040"/>
                    <a:chExt cx="964440" cy="895320"/>
                  </a:xfrm>
                </p:grpSpPr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380160" y="7088040"/>
                      <a:ext cx="832680" cy="895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to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st Ex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st Fle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ger Fle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osse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314280" y="7130880"/>
                      <a:ext cx="964440" cy="8096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67" name=""/>
                <p:cNvGrpSpPr/>
                <p:nvPr/>
              </p:nvGrpSpPr>
              <p:grpSpPr>
                <a:xfrm>
                  <a:off x="3615840" y="7088040"/>
                  <a:ext cx="3301200" cy="895320"/>
                  <a:chOff x="3615840" y="7088040"/>
                  <a:chExt cx="3301200" cy="89532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4580640" y="7130880"/>
                    <a:ext cx="1168200" cy="8096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3615840" y="7130880"/>
                    <a:ext cx="964800" cy="8096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3671280" y="7088040"/>
                    <a:ext cx="833040" cy="895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Hip Flexor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Hip Add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Knee Ext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Dorsi Fle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lantar Fle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5748840" y="7130880"/>
                    <a:ext cx="1168200" cy="8096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2" name=""/>
                <p:cNvSpPr/>
                <p:nvPr/>
              </p:nvSpPr>
              <p:spPr>
                <a:xfrm>
                  <a:off x="1313280" y="6948360"/>
                  <a:ext cx="11257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ef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461320" y="6948360"/>
                  <a:ext cx="11325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Righ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4604760" y="6948360"/>
                  <a:ext cx="11260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ef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773320" y="6948360"/>
                  <a:ext cx="11124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Righ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>
                <a:off x="314280" y="7311960"/>
                <a:ext cx="660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14280" y="7464240"/>
                <a:ext cx="660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14280" y="7616520"/>
                <a:ext cx="660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14280" y="7769160"/>
                <a:ext cx="660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0" name=""/>
          <p:cNvGrpSpPr/>
          <p:nvPr/>
        </p:nvGrpSpPr>
        <p:grpSpPr>
          <a:xfrm>
            <a:off x="1289160" y="5365800"/>
            <a:ext cx="3406680" cy="260280"/>
            <a:chOff x="1289160" y="5365800"/>
            <a:chExt cx="3406680" cy="260280"/>
          </a:xfrm>
        </p:grpSpPr>
        <p:sp>
          <p:nvSpPr>
            <p:cNvPr id="281" name=""/>
            <p:cNvSpPr/>
            <p:nvPr/>
          </p:nvSpPr>
          <p:spPr>
            <a:xfrm>
              <a:off x="1314360" y="5365800"/>
              <a:ext cx="3381480" cy="247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227400" y="5369040"/>
              <a:ext cx="7048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 = Hyp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584440" y="5369040"/>
              <a:ext cx="657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= Nor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913040" y="5369040"/>
              <a:ext cx="68580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 = Hyp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289160" y="5369040"/>
              <a:ext cx="6379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 = Ab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917880" y="5369040"/>
              <a:ext cx="7048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 = Clon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38160" y="5380200"/>
            <a:ext cx="7184160" cy="1293480"/>
            <a:chOff x="38160" y="5380200"/>
            <a:chExt cx="7184160" cy="1293480"/>
          </a:xfrm>
        </p:grpSpPr>
        <p:grpSp>
          <p:nvGrpSpPr>
            <p:cNvPr id="288" name=""/>
            <p:cNvGrpSpPr/>
            <p:nvPr/>
          </p:nvGrpSpPr>
          <p:grpSpPr>
            <a:xfrm>
              <a:off x="38160" y="5380200"/>
              <a:ext cx="803160" cy="428760"/>
              <a:chOff x="38160" y="5380200"/>
              <a:chExt cx="803160" cy="428760"/>
            </a:xfrm>
          </p:grpSpPr>
          <p:sp>
            <p:nvSpPr>
              <p:cNvPr id="289" name=""/>
              <p:cNvSpPr/>
              <p:nvPr/>
            </p:nvSpPr>
            <p:spPr>
              <a:xfrm>
                <a:off x="38160" y="5383440"/>
                <a:ext cx="803160" cy="409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9240" y="5380200"/>
                <a:ext cx="7567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D.T.R.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Reflex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1021320" y="5657760"/>
              <a:ext cx="6201000" cy="1015920"/>
              <a:chOff x="1021320" y="5657760"/>
              <a:chExt cx="6201000" cy="1015920"/>
            </a:xfrm>
          </p:grpSpPr>
          <p:sp>
            <p:nvSpPr>
              <p:cNvPr id="292" name=""/>
              <p:cNvSpPr/>
              <p:nvPr/>
            </p:nvSpPr>
            <p:spPr>
              <a:xfrm>
                <a:off x="2247840" y="5657760"/>
                <a:ext cx="544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Lef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162240" y="5657760"/>
                <a:ext cx="544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Righ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282680" y="5657760"/>
                <a:ext cx="544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DT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799160" y="5657760"/>
                <a:ext cx="258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184720" y="5657760"/>
                <a:ext cx="258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526080" y="5657760"/>
                <a:ext cx="258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912000" y="5657760"/>
                <a:ext cx="258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9" name=""/>
              <p:cNvGrpSpPr/>
              <p:nvPr/>
            </p:nvGrpSpPr>
            <p:grpSpPr>
              <a:xfrm>
                <a:off x="1021320" y="5818320"/>
                <a:ext cx="6201000" cy="855360"/>
                <a:chOff x="1021320" y="5818320"/>
                <a:chExt cx="6201000" cy="85536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1021320" y="5818320"/>
                  <a:ext cx="447480" cy="85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B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B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T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A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A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425960" y="5818320"/>
                  <a:ext cx="531360" cy="85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7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4, L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S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3935880" y="5818320"/>
                  <a:ext cx="750600" cy="70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Babinsk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haddock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Gord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Hoffma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551200" y="5818320"/>
                  <a:ext cx="833040" cy="70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ppenhei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Rhomber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Rossolim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Tromn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4" name=""/>
                <p:cNvGrpSpPr/>
                <p:nvPr/>
              </p:nvGrpSpPr>
              <p:grpSpPr>
                <a:xfrm>
                  <a:off x="1045800" y="5835600"/>
                  <a:ext cx="6176520" cy="814680"/>
                  <a:chOff x="1045800" y="5835600"/>
                  <a:chExt cx="6176520" cy="81468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>
                    <a:off x="2915280" y="5835600"/>
                    <a:ext cx="0" cy="804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1949760" y="5835600"/>
                    <a:ext cx="0" cy="814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3890520" y="5835600"/>
                    <a:ext cx="0" cy="809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1045800" y="5835600"/>
                    <a:ext cx="6176520" cy="8096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1452240" y="5835600"/>
                    <a:ext cx="0" cy="814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4733640" y="5835600"/>
                    <a:ext cx="0" cy="809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5505480" y="5835600"/>
                    <a:ext cx="0" cy="809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460560" y="5835600"/>
                    <a:ext cx="0" cy="809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119560" y="5835600"/>
                    <a:ext cx="0" cy="809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846480" y="5835600"/>
                    <a:ext cx="0" cy="809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1045800" y="6016680"/>
                    <a:ext cx="6176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1050480" y="6168960"/>
                    <a:ext cx="6171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1055880" y="6316920"/>
                    <a:ext cx="6166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1050480" y="6473880"/>
                    <a:ext cx="6171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19" name=""/>
              <p:cNvSpPr/>
              <p:nvPr/>
            </p:nvSpPr>
            <p:spPr>
              <a:xfrm>
                <a:off x="4118040" y="5657760"/>
                <a:ext cx="542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Pat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0" name=""/>
          <p:cNvSpPr/>
          <p:nvPr/>
        </p:nvSpPr>
        <p:spPr>
          <a:xfrm>
            <a:off x="1285920" y="6707160"/>
            <a:ext cx="3593880" cy="2476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936880" y="6700680"/>
            <a:ext cx="7048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= Fa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389320" y="6700680"/>
            <a:ext cx="65700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= Po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81280" y="6700680"/>
            <a:ext cx="68580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= Tr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60360" y="6700680"/>
            <a:ext cx="6382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= Ze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460680" y="6700680"/>
            <a:ext cx="7048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 = Go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094280" y="6702480"/>
            <a:ext cx="7048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 = Norm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-9360" y="946080"/>
            <a:ext cx="116676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el Wal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e Wal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am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ort. Adam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ersal S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mp’s Sd/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segue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card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g Low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ig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aggard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ldthwait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enslen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omas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trick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bl Leg Rai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over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lgram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bman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to-Hall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dner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-SB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aminal C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RC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rvical Dist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er Dep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nuson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5332320"/>
            <a:ext cx="803160" cy="22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0" y="5710320"/>
            <a:ext cx="478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28840" y="5710320"/>
            <a:ext cx="351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601800" y="5716440"/>
            <a:ext cx="478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27760" y="5716440"/>
            <a:ext cx="351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0" y="5773680"/>
            <a:ext cx="7315200" cy="1072800"/>
            <a:chOff x="0" y="5773680"/>
            <a:chExt cx="7315200" cy="1072800"/>
          </a:xfrm>
        </p:grpSpPr>
        <p:sp>
          <p:nvSpPr>
            <p:cNvPr id="334" name=""/>
            <p:cNvSpPr/>
            <p:nvPr/>
          </p:nvSpPr>
          <p:spPr>
            <a:xfrm>
              <a:off x="0" y="5773680"/>
              <a:ext cx="914400" cy="106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86320" y="5773680"/>
              <a:ext cx="914400" cy="106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914400" y="6837480"/>
              <a:ext cx="640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14400" y="5773680"/>
              <a:ext cx="640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0" y="595548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0" y="612828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0" y="630108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8288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65568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28480" y="5773680"/>
              <a:ext cx="0" cy="106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114800" y="5773680"/>
              <a:ext cx="0" cy="106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736640" y="5773680"/>
              <a:ext cx="0" cy="106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320840" y="5773680"/>
              <a:ext cx="0" cy="106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435640" y="5773680"/>
              <a:ext cx="0" cy="106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960800" y="5782680"/>
              <a:ext cx="0" cy="106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51840" y="5595840"/>
            <a:ext cx="41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/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81680" y="5595840"/>
            <a:ext cx="44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r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42840" y="5595840"/>
            <a:ext cx="40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760400" y="5586480"/>
            <a:ext cx="179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31640" y="5595840"/>
            <a:ext cx="39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637800" y="5595840"/>
            <a:ext cx="40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/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68000" y="5595840"/>
            <a:ext cx="44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r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24120" y="5595840"/>
            <a:ext cx="40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516640" y="5595840"/>
            <a:ext cx="17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018040" y="5595840"/>
            <a:ext cx="39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2240" y="5329080"/>
            <a:ext cx="508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310520" y="984240"/>
            <a:ext cx="0" cy="59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310520" y="1546200"/>
            <a:ext cx="0" cy="371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310520" y="2857680"/>
            <a:ext cx="0" cy="12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9040" y="7032600"/>
            <a:ext cx="317520" cy="94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-58680" y="6870600"/>
            <a:ext cx="52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ou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851920" y="6869160"/>
            <a:ext cx="44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r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231520" y="6870600"/>
            <a:ext cx="44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r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1720" y="6870600"/>
            <a:ext cx="44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r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441520" y="6870600"/>
            <a:ext cx="50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b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911480" y="6870600"/>
            <a:ext cx="43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r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36560" y="6869160"/>
            <a:ext cx="331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030320" y="6870600"/>
            <a:ext cx="40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660640" y="6870600"/>
            <a:ext cx="24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977080" y="686916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85720" y="6869160"/>
            <a:ext cx="24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608280" y="687060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398600" y="6870600"/>
            <a:ext cx="103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22560" y="6870600"/>
            <a:ext cx="103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-19440" y="7012080"/>
            <a:ext cx="502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7034040"/>
            <a:ext cx="412920" cy="94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3080" y="7012080"/>
            <a:ext cx="436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452320" y="7012080"/>
            <a:ext cx="511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844720" y="7012080"/>
            <a:ext cx="436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932360" y="7012080"/>
            <a:ext cx="400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274000" y="7012080"/>
            <a:ext cx="35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903400" y="7032600"/>
            <a:ext cx="338400" cy="94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95520" y="7032600"/>
            <a:ext cx="407880" cy="94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284800" y="7032600"/>
            <a:ext cx="336600" cy="94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84920" y="7032600"/>
            <a:ext cx="299880" cy="94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723744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800" y="7974000"/>
            <a:ext cx="657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777564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75963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741672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065240" y="7043760"/>
            <a:ext cx="0" cy="9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67240" y="703908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42160" y="703908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398600" y="703908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95560" y="703908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270480" y="703908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353280" y="6870600"/>
            <a:ext cx="86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4680" y="8018640"/>
            <a:ext cx="7275600" cy="217080"/>
            <a:chOff x="4680" y="8018640"/>
            <a:chExt cx="7275600" cy="217080"/>
          </a:xfrm>
        </p:grpSpPr>
        <p:sp>
          <p:nvSpPr>
            <p:cNvPr id="402" name=""/>
            <p:cNvSpPr/>
            <p:nvPr/>
          </p:nvSpPr>
          <p:spPr>
            <a:xfrm>
              <a:off x="4680" y="8020080"/>
              <a:ext cx="436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i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45440" y="8020080"/>
              <a:ext cx="44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or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07400" y="8020080"/>
              <a:ext cx="44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or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54600" y="8020080"/>
              <a:ext cx="44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or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83280" y="8020080"/>
              <a:ext cx="429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Kne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880160" y="8020080"/>
              <a:ext cx="457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nk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71120" y="8018640"/>
              <a:ext cx="243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91880" y="802008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635080" y="8020080"/>
              <a:ext cx="243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954400" y="802008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268080" y="8018640"/>
              <a:ext cx="243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89200" y="802008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419120" y="8020080"/>
              <a:ext cx="1033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o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02040" y="8018640"/>
              <a:ext cx="103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o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248160" y="8018640"/>
              <a:ext cx="103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o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-25560" y="8209080"/>
            <a:ext cx="481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43080" y="8205840"/>
            <a:ext cx="436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52680" y="8197920"/>
            <a:ext cx="478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835360" y="8197920"/>
            <a:ext cx="436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09680" y="8204040"/>
            <a:ext cx="38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248800" y="8204040"/>
            <a:ext cx="35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23960" y="8202600"/>
            <a:ext cx="659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20840" y="8202600"/>
            <a:ext cx="312480" cy="114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80" y="8204040"/>
            <a:ext cx="416160" cy="114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92600" y="8202600"/>
            <a:ext cx="336240" cy="114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484360" y="8202600"/>
            <a:ext cx="408240" cy="114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261040" y="8202600"/>
            <a:ext cx="331560" cy="114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962600" y="8202600"/>
            <a:ext cx="298440" cy="114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480" y="8415360"/>
            <a:ext cx="73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5840" y="9169560"/>
            <a:ext cx="729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480" y="8989920"/>
            <a:ext cx="73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480" y="8798040"/>
            <a:ext cx="73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480" y="8605800"/>
            <a:ext cx="73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050840" y="8209080"/>
            <a:ext cx="0" cy="11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546360" y="8213760"/>
            <a:ext cx="0" cy="11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915160" y="820260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5840" y="9352080"/>
            <a:ext cx="729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82760" y="8202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78280" y="82011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242040" y="8207280"/>
            <a:ext cx="0" cy="11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959440" y="819000"/>
            <a:ext cx="132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942840" y="809640"/>
            <a:ext cx="1341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84560" y="809640"/>
            <a:ext cx="133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9920" y="819000"/>
            <a:ext cx="137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992160"/>
            <a:ext cx="1081080" cy="425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629160" y="992160"/>
            <a:ext cx="1110960" cy="425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322360" y="99216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969160" y="992160"/>
            <a:ext cx="0" cy="61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24160" y="1763640"/>
            <a:ext cx="0" cy="150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322360" y="342900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322360" y="3741840"/>
            <a:ext cx="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324160" y="4937040"/>
            <a:ext cx="0" cy="2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969160" y="1758960"/>
            <a:ext cx="0" cy="34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635280" y="946080"/>
            <a:ext cx="122256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kopff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rn’s Be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y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oman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ring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illet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man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wbarn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ugas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ra P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in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cla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Murray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Intosh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chman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t T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t Scra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ll’s 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zen’s 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len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nel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kel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son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gus St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rus St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 Drawer S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 Drawer S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-7920" y="1757520"/>
            <a:ext cx="731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-9360" y="1455840"/>
            <a:ext cx="731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-9360" y="2365200"/>
            <a:ext cx="731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-7920" y="2065320"/>
            <a:ext cx="731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-7920" y="1606680"/>
            <a:ext cx="731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-7920" y="2668680"/>
            <a:ext cx="731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-9360" y="2962440"/>
            <a:ext cx="731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-9360" y="3119400"/>
            <a:ext cx="731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-9360" y="3265560"/>
            <a:ext cx="731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-9360" y="3427560"/>
            <a:ext cx="731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-9360" y="1154160"/>
            <a:ext cx="731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-9360" y="3733920"/>
            <a:ext cx="731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-9360" y="4029120"/>
            <a:ext cx="731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-9360" y="4179960"/>
            <a:ext cx="731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-9360" y="4332240"/>
            <a:ext cx="731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-11160" y="4635360"/>
            <a:ext cx="731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-9360" y="4938840"/>
            <a:ext cx="731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-9360" y="5094360"/>
            <a:ext cx="731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-7920" y="1916280"/>
            <a:ext cx="731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-7920" y="2214720"/>
            <a:ext cx="731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-7920" y="2517840"/>
            <a:ext cx="731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-9360" y="2816280"/>
            <a:ext cx="731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-9360" y="1305000"/>
            <a:ext cx="731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-9360" y="3578400"/>
            <a:ext cx="731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-9360" y="3881520"/>
            <a:ext cx="731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4483080"/>
            <a:ext cx="731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4786200"/>
            <a:ext cx="731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-9360" y="5245200"/>
            <a:ext cx="731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001160" y="1916280"/>
            <a:ext cx="366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g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245680" y="1914480"/>
            <a:ext cx="366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g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001160" y="2655720"/>
            <a:ext cx="366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g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243880" y="2655720"/>
            <a:ext cx="366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g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001160" y="3262320"/>
            <a:ext cx="366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g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005480" y="3575160"/>
            <a:ext cx="35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c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93800" y="990720"/>
            <a:ext cx="651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-1080" y="0"/>
            <a:ext cx="7316280" cy="645480"/>
            <a:chOff x="-1080" y="0"/>
            <a:chExt cx="7316280" cy="645480"/>
          </a:xfrm>
        </p:grpSpPr>
        <p:sp>
          <p:nvSpPr>
            <p:cNvPr id="492" name=""/>
            <p:cNvSpPr/>
            <p:nvPr/>
          </p:nvSpPr>
          <p:spPr>
            <a:xfrm>
              <a:off x="5972040" y="393840"/>
              <a:ext cx="55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733840" y="194040"/>
              <a:ext cx="12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0" y="73440"/>
              <a:ext cx="1327320" cy="26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-1080" y="64440"/>
              <a:ext cx="1334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rthopedic Tes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381840" y="426600"/>
              <a:ext cx="474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rb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53800" y="6840"/>
              <a:ext cx="52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neez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209920" y="6840"/>
              <a:ext cx="964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owel Mov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152880" y="213840"/>
              <a:ext cx="372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er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000680" y="213840"/>
              <a:ext cx="372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r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786200" y="21384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um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629680" y="213840"/>
              <a:ext cx="435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443640" y="213840"/>
              <a:ext cx="32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561560" y="429840"/>
              <a:ext cx="628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r/Truc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938200" y="429840"/>
              <a:ext cx="45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.T.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290840" y="194040"/>
              <a:ext cx="10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76800" y="194040"/>
              <a:ext cx="123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585880" y="393840"/>
              <a:ext cx="66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443400" y="393840"/>
              <a:ext cx="63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276800" y="393840"/>
              <a:ext cx="58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105520" y="393840"/>
              <a:ext cx="60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691320" y="393840"/>
              <a:ext cx="6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709720" y="609840"/>
              <a:ext cx="74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72080" y="609840"/>
              <a:ext cx="87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100480" y="609840"/>
              <a:ext cx="9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296040" y="609840"/>
              <a:ext cx="10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341800" y="426600"/>
              <a:ext cx="461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ctiv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344680" y="216000"/>
              <a:ext cx="322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346120" y="0"/>
              <a:ext cx="479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ug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95360" y="0"/>
              <a:ext cx="893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jerine’s Tria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400040" y="216000"/>
              <a:ext cx="642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alsalva’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400760" y="420840"/>
              <a:ext cx="74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r’s Sig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0" y="703404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302600" y="703908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302600" y="5769000"/>
            <a:ext cx="0" cy="10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302600" y="820728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324160" y="46530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333520" y="4338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2T16:18:00Z</dcterms:created>
  <dc:creator>Tim Mulherin</dc:creator>
  <dc:description/>
  <dc:language>en-US</dc:language>
  <cp:lastModifiedBy>Dr. Kevin J. Mulhern</cp:lastModifiedBy>
  <cp:lastPrinted>1998-11-05T12:10:12Z</cp:lastPrinted>
  <dcterms:modified xsi:type="dcterms:W3CDTF">1998-11-05T13:03:39Z</dcterms:modified>
  <cp:revision>42</cp:revision>
  <dc:subject/>
  <dc:title>Exam Form</dc:title>
</cp:coreProperties>
</file>